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714-574C-4454-8EB2-33B3A486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F9F-311E-4D49-9474-F47A1AE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3D9-B61A-4123-BFD7-AEB79DC9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498-C2D0-45D9-ABCB-4C5B520D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FB0-29F8-469C-ADA2-9929ECC9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4C71-3823-4019-B44E-4B29796D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08A3-F95A-484D-A798-423A772A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7AD3-48D2-477E-8824-AA9257E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E92-8B92-40B9-9BFF-51E5C86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38D0-3C4B-4338-B170-E3A3C64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AFD5-1A26-41B1-BB13-5501FFD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E99-9654-4879-9221-0EA8F3B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55E2-9C8A-4EDD-AEA9-C265FDCB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0066-4B32-4C10-9C5A-1292585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E731-022B-4F7B-84FE-5D571F4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5D16-67A3-4BBF-9F1E-828BEF5B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8AA0-0D32-4F6C-926A-AFFAC06E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029-9C47-4929-AE67-FAFFCA4A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3A2-5A05-4542-AE68-D370EB9B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8E1-34C6-4DBB-9EE7-71EAA54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3B5-2495-48B2-BC2F-37A872DD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340-2894-4A7A-8678-E355ECB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ED1-9FB0-49E1-931F-9E01D0B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4B5-F157-45C1-9132-3E20159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E05-5612-4FDA-A760-78523D16F0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EF7C-E186-443A-9871-4B31FC25A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260280"/>
            <a:ext cx="885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直面困难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追逐梦想</a:t>
            </a:r>
            <a:endParaRPr b="1" lang="en-US" sz="8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高一</a:t>
            </a: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(6)</a:t>
            </a: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班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79560" y="4797360"/>
            <a:ext cx="7264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广州市八十六中 宋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《与梦想一起飞翔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把目光朝向铸就成功的远方。志存高远，才没有年少无知的轻狂，才没有虚度光阴的荒唐；胸怀广阔，才不因挫折打击而迷惘，才不因失败伤痛而彷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靠毅力挥动背负沉重的翅膀。如苍鹰搏击于长空，似海燕翱翔于汪洋。直面风吹雨打，历经夏暑秋凉。勇往直前，一如既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与梦想一起飞翔，用真情呵护生命年轮的成长。将家的温馨贴在胸膛，朋友情谊似烈酒滚烫，师长风范如清茶悠长，让浓浓爱意洋溢年轻的心房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终有一天，梦想的花蕾会朵朵绽放，梦想的星辰会熠熠闪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老师寄语：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把自己确立的远大理想分解成若干个小目标，再循序渐进地去实现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没有比脚更长的路，没有比自己更高的山！努力吧，树立目标，认识自我，超越自我。只要你自己相信自己“能”，就一定“能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19810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文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9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做一粒咖啡豆》，想一想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处逆境中，胡萝卜、鸡蛋、咖啡豆有什么不同的表现？你有何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121932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加强阅读 理解吸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苦难》，记一记：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“你战胜苦难，它就是你的财富；苦难战胜你，它就是你的屈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周杰伦《蜗牛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003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不该搁下重重的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寻找到底哪里有蓝天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轻轻的风轻轻的飘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历经的伤都不感觉疼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待阳光静静看着它的脸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的天有大大的梦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重的壳裹着轻轻的仰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36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最高点乘着叶片往前飞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风吹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过的泪和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有一天我有属于我的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张敬轩《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My way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751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在酝酿一直在盼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和妈妈唯一的理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月第一天一九八一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第一次对他们眨了眨眼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希望这个宝贝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体要健康所有的事情都如所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a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大以后就是小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fer the wind ane rain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re will be abrand new d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候受伤有人心疼失落有人安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遇到困难自己就要学会面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764640"/>
            <a:ext cx="419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othing will stop me now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o matter what they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困难要用我的坚强和努力勇敢面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用心去追感觉就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"ll find my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就这样找我的方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理会别人奇怪的眼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到有一天我忽然发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想已经在实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着自己已经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生活应该让我自己学会掌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信自己不怕风雨再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孙燕姿《逃亡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620280"/>
            <a:ext cx="47750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踩著月光打开车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开这城市想找个解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是偶尔难免沮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离开想躲起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里的期待总是填不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著山下千万的窗谁不曾感到失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算会彷徨也还要去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未来只有自己明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765000"/>
            <a:ext cx="419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想让心情被现实打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站在靠近天的顶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开手全部释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月光取暖给自己力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发现关于梦的答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直在自己手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自己能让自己发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广 州 大 学 图 书 馆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28036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06800" y="228240"/>
            <a:ext cx="213516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广 州 大 学 钟 楼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62532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1196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毕  业  照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讨   论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位乡下农夫有头老驴子，一天，老驴子不小心跌进了一个深坑，农夫听到驴的哀鸣，目睹它的困境，想了很久，断定救不了它，但又不忍心看着它痛苦而死，于是，农夫决定往坑里填土，把老驴闷死，以便使它早些脱离苦海，于是，农夫就开始往坑里填土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74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山高路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呼喊是爆发的沉默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沉默是无声的召唤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论激越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是宁静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祈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只要不是平淡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远方呼喊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远方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大山召唤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大山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脚磨破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干脆再让夕阳涂抹小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手划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索性就让荆棘变成杜鹃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脚更长的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人更高的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1:22:10Z</dcterms:created>
  <dc:creator>书利华教育网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5:29Z</dcterms:modified>
  <cp:revision>15</cp:revision>
  <dc:subject>主题班会课件(分28大类): http://shop62905894.taobao.com</dc:subject>
  <dc:title>主题班会课件(分28大类): http://shop62905894.taobao.com</dc:title>
</cp:coreProperties>
</file>